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3FF-8114-4AEA-9A24-5A4650A1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E9C-58A0-4A65-8E68-B44D91F0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1F2-D4AB-485E-8558-D1F6AF05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1B4-7D25-428F-9AE1-AD5EB5CE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224-460C-4DF1-B630-62BB0615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CE2-C8A0-4EFB-A8CB-4E2E87FD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27F-792A-4B95-B427-D7A83A1D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4A1-A73D-4DA2-BB77-1A60DAF3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1A5-CF95-4E9F-89EA-C62BC31E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22C-CBDC-45B1-ABC0-23BA75C4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6E9-9440-4D2E-93A6-B415CFAF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BB5-2067-48F8-81FD-9E3021E0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A5C3-98A7-4E15-A91F-225DD17A1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5943600" cy="73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 u="sng">
                <a:solidFill>
                  <a:srgbClr val="000000"/>
                </a:solidFill>
                <a:uFillTx/>
                <a:latin typeface="Calibri"/>
              </a:rPr>
              <a:t>An séimhiú mar ‘ghliú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Nuair a nasctar dhá fhocal le chéile sa Ghaeilge chun focal nua a dhéanamh, go minic bíonn séimhiú ag teastáil chun iad a ‘cheangal’ dá ché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Mar shampl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Comh + focail: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comh</a:t>
            </a:r>
            <a:r>
              <a:rPr b="1" lang="ga-IE" sz="2800" spc="-1" strike="noStrike" u="sng">
                <a:solidFill>
                  <a:srgbClr val="000000"/>
                </a:solidFill>
                <a:uFillTx/>
                <a:latin typeface="Calibri"/>
              </a:rPr>
              <a:t>fh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oc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Sean + máthair: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sean</a:t>
            </a:r>
            <a:r>
              <a:rPr b="1" lang="ga-IE" sz="2800" spc="-1" strike="noStrike" u="sng">
                <a:solidFill>
                  <a:srgbClr val="000000"/>
                </a:solidFill>
                <a:uFillTx/>
                <a:latin typeface="Calibri"/>
              </a:rPr>
              <a:t>mh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át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Oll + margadh: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oll</a:t>
            </a:r>
            <a:r>
              <a:rPr b="1" lang="ga-IE" sz="2800" spc="-1" strike="noStrike" u="sng">
                <a:solidFill>
                  <a:srgbClr val="000000"/>
                </a:solidFill>
                <a:uFillTx/>
                <a:latin typeface="Calibri"/>
              </a:rPr>
              <a:t>mh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argad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Comhfhocail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ight Arrow 7"/>
          <p:cNvSpPr/>
          <p:nvPr/>
        </p:nvSpPr>
        <p:spPr>
          <a:xfrm flipV="1">
            <a:off x="685800" y="914040"/>
            <a:ext cx="4572000" cy="4608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520" y="114264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Nasc na focail seo le chéile chun focal nua a chruthú agus abair cad is brí leis na focail a bheidh cumtha ag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Comh + brón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Máthair + teanga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Geal + gáireach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Ríomh + post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Aois + grúpa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Mí + tuiscint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Gnáth + caite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Gnáth + saol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Dá + teangach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Tré + dearcach: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533520" y="304920"/>
            <a:ext cx="5829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Comhfhocail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Cleachtadh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ight Arrow 8"/>
          <p:cNvSpPr/>
          <p:nvPr/>
        </p:nvSpPr>
        <p:spPr>
          <a:xfrm flipV="1">
            <a:off x="638280" y="874440"/>
            <a:ext cx="4572000" cy="4608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520" y="1218960"/>
            <a:ext cx="61722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Ná déan dearmad nach féidir séimhiú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chur ar litreacha áirithe – l, n, r – ná 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ghutaí - agus sin an fáth nach bhfu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séimhiú in úsáid sna comhfhocail se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Cóipleabhar (cóip + leabha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Comhréir (comh + réi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Comhnascadh (comh + nascad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800" spc="-1" strike="noStrike">
                <a:solidFill>
                  <a:srgbClr val="000000"/>
                </a:solidFill>
                <a:latin typeface="Calibri"/>
              </a:rPr>
              <a:t>Gariníon (gar + iní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533520" y="304920"/>
            <a:ext cx="5829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Comhfhocail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ight Arrow 7"/>
          <p:cNvSpPr/>
          <p:nvPr/>
        </p:nvSpPr>
        <p:spPr>
          <a:xfrm flipV="1">
            <a:off x="647640" y="914040"/>
            <a:ext cx="4572000" cy="4608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0520" y="1218960"/>
            <a:ext cx="61722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Tá cúis amháin eile ann nach mbeadh séimhiú á úsáid m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ghliú’ idir focail agus an chúis sin ná na ‘dentals’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Is éard atá i gceist leis na ‘dentals’ ná na litreach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3300" spc="-1" strike="noStrike">
                <a:solidFill>
                  <a:srgbClr val="000000"/>
                </a:solidFill>
                <a:latin typeface="Calibri"/>
              </a:rPr>
              <a:t>d, n, t, l, 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An riail ná – má chríochnaíonn focal amháin le </a:t>
            </a:r>
            <a:r>
              <a:rPr b="0" i="1" lang="ga-IE" sz="1800" spc="-1" strike="noStrike">
                <a:solidFill>
                  <a:srgbClr val="000000"/>
                </a:solidFill>
                <a:latin typeface="Calibri"/>
              </a:rPr>
              <a:t>dental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 agus m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thosaíonn an chéad fhocal eile le </a:t>
            </a:r>
            <a:r>
              <a:rPr b="0" i="1" lang="ga-IE" sz="1800" spc="-1" strike="noStrike">
                <a:solidFill>
                  <a:srgbClr val="000000"/>
                </a:solidFill>
                <a:latin typeface="Calibri"/>
              </a:rPr>
              <a:t>dental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 ní féidir séimhiú a ch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ar an dara ceann!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Aimsigh na dentals sna comhfhocail se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rdte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iontean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dí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eandu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lteang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An féidir leat smaoineamh ar shamplaí eil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533520" y="304920"/>
            <a:ext cx="5829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Comhfhoc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ight Arrow 7"/>
          <p:cNvSpPr/>
          <p:nvPr/>
        </p:nvSpPr>
        <p:spPr>
          <a:xfrm flipV="1">
            <a:off x="685800" y="914040"/>
            <a:ext cx="4572000" cy="4608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520" y="1218960"/>
            <a:ext cx="61722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Bí cúramach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Nuair a chloiseann daoine an riail faoi 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2400" spc="-1" strike="noStrike">
                <a:solidFill>
                  <a:srgbClr val="000000"/>
                </a:solidFill>
                <a:latin typeface="Calibri"/>
              </a:rPr>
              <a:t>dentals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 den chéad uair ceapann siad gurb í 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riail ná nach féidir séimhiú a chur ar na litreac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d, n, t, l, s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Ach ní hí sin an riai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An riail ná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Má tá </a:t>
            </a:r>
            <a:r>
              <a:rPr b="0" lang="ga-IE" sz="2400" spc="-1" strike="noStrike" u="sng">
                <a:solidFill>
                  <a:srgbClr val="000000"/>
                </a:solidFill>
                <a:uFillTx/>
                <a:latin typeface="Calibri"/>
              </a:rPr>
              <a:t>dhá cheann de na litreacha d, n, t, l, 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 u="sng">
                <a:solidFill>
                  <a:srgbClr val="000000"/>
                </a:solidFill>
                <a:uFillTx/>
                <a:latin typeface="Calibri"/>
              </a:rPr>
              <a:t>díreach i ndiaidh a chéile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, ní féidir séimhiú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chur ar an dara cean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e.g. Ar</a:t>
            </a:r>
            <a:r>
              <a:rPr b="1" lang="ga-IE" sz="1800" spc="-1" strike="noStrike" u="sng">
                <a:solidFill>
                  <a:srgbClr val="000000"/>
                </a:solidFill>
                <a:uFillTx/>
                <a:latin typeface="Calibri"/>
              </a:rPr>
              <a:t>dt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e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533520" y="304920"/>
            <a:ext cx="5829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Comhfhocail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7"/>
          <p:cNvSpPr/>
          <p:nvPr/>
        </p:nvSpPr>
        <p:spPr>
          <a:xfrm flipV="1">
            <a:off x="685800" y="906120"/>
            <a:ext cx="4572000" cy="4608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riarachan</cp:lastModifiedBy>
  <dcterms:modified xsi:type="dcterms:W3CDTF">2013-02-15T10:54:05Z</dcterms:modified>
  <cp:revision>37</cp:revision>
  <dc:subject/>
  <dc:title>An Aimsir Láithreach</dc:title>
</cp:coreProperties>
</file>