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3A68D-FB1B-4354-812D-BD491C842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81C14-9936-4FBA-AEBF-E74A4FE26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64BC2-0E5A-47EF-8327-901A809E1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39067-0A31-41A3-91B2-76E173164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940F1-94FA-457A-94CA-577FE202D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451F7-A92A-4873-9A2F-4B7B7F220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9C7D7-6DDA-42E5-A0AD-9FE95B3B9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40DAA-28A9-479B-986F-4B0BC1A7A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CC84D-D594-4542-8A44-2034F35D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7CA0-0E37-4309-A88E-380731C65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5B839-88A0-47E2-9DCA-278E3268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6D91-C570-4507-8F34-4BA83E86A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6144-B05B-4D80-8040-EB8EA8C520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atemyteacher.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Éisteacht</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43" name="TextBox 6"/>
          <p:cNvSpPr/>
          <p:nvPr/>
        </p:nvSpPr>
        <p:spPr>
          <a:xfrm>
            <a:off x="457200" y="1143000"/>
            <a:ext cx="6095880" cy="90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Calibri"/>
              </a:rPr>
              <a:t>A</a:t>
            </a:r>
            <a:r>
              <a:rPr b="0" lang="ga-IE" sz="2400" spc="-1" strike="noStrike">
                <a:solidFill>
                  <a:srgbClr val="000000"/>
                </a:solidFill>
                <a:latin typeface="Calibri"/>
              </a:rPr>
              <a:t>. Beidh tú ag éisteacht le múinteoir ag labhairt faoi shaol na scoile ina scoil féin. An féidir leat na bearnaí a líonadh sa script ar dtú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Tá atmaisféar deas __________ sa scoil. Tá na gasúir den chuid is mó, tá siad __________lena chéile. Bíonn siad go maith dá chéile, den chuid is mó. Mar gheall ar na scoileanna beaga tuaithe, bíonn __________ ar a chéile, fiú, bíonn aithne acu ar go leor daoine sa scoil, agus iad ag teacht isteach anseo sa gcéad bhliain. __________ ar chúrsaí peile, cúrsaí rugbaí, bíonn aithne acu ar níos mó b’fhéidir... ar dhaoine as na ceantracha eile timpeall agus mar sin de. Tá caidrimh an-mhaith, den chuid is mó, idir na scoláirí agus na múinteoirí. Bímid ag troid, bíonn __________ anois is arís ach bíonn i gcónaí, i scoil ar bith. Den chuid is mó, bíonn caidreamh dearfach ann idir na scoláirí agus na múinteoir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200" spc="-1" strike="noStrike">
                <a:solidFill>
                  <a:srgbClr val="000000"/>
                </a:solidFill>
                <a:latin typeface="Calibri"/>
              </a:rPr>
              <a:t>Mar gheall ar</a:t>
            </a:r>
            <a:r>
              <a:rPr b="0" lang="ga-IE" sz="2200" spc="-1" strike="noStrike">
                <a:solidFill>
                  <a:srgbClr val="000000"/>
                </a:solidFill>
                <a:latin typeface="Calibri"/>
              </a:rPr>
              <a:t>	</a:t>
            </a:r>
            <a:r>
              <a:rPr b="0" lang="ga-IE" sz="2200" spc="-1" strike="noStrike">
                <a:solidFill>
                  <a:srgbClr val="000000"/>
                </a:solidFill>
                <a:latin typeface="Calibri"/>
              </a:rPr>
              <a:t>tríd is tríd</a:t>
            </a:r>
            <a:r>
              <a:rPr b="0" lang="ga-IE" sz="2200" spc="-1" strike="noStrike">
                <a:solidFill>
                  <a:srgbClr val="000000"/>
                </a:solidFill>
                <a:latin typeface="Calibri"/>
              </a:rPr>
              <a:t>	</a:t>
            </a:r>
            <a:r>
              <a:rPr b="0" lang="ga-IE" sz="2200" spc="-1" strike="noStrike">
                <a:solidFill>
                  <a:srgbClr val="000000"/>
                </a:solidFill>
                <a:latin typeface="Calibri"/>
              </a:rPr>
              <a:t>an-aithne acu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200" spc="-1" strike="noStrike">
                <a:solidFill>
                  <a:srgbClr val="000000"/>
                </a:solidFill>
                <a:latin typeface="Calibri"/>
              </a:rPr>
              <a:t>mór </a:t>
            </a:r>
            <a:r>
              <a:rPr b="0" lang="ga-IE" sz="2200" spc="-1" strike="noStrike">
                <a:solidFill>
                  <a:srgbClr val="000000"/>
                </a:solidFill>
                <a:latin typeface="Calibri"/>
              </a:rPr>
              <a:t>	</a:t>
            </a:r>
            <a:r>
              <a:rPr b="0" lang="ga-IE" sz="2200" spc="-1" strike="noStrike">
                <a:solidFill>
                  <a:srgbClr val="000000"/>
                </a:solidFill>
                <a:latin typeface="Calibri"/>
              </a:rPr>
              <a:t>	</a:t>
            </a:r>
            <a:r>
              <a:rPr b="0" lang="ga-IE" sz="2200" spc="-1" strike="noStrike">
                <a:solidFill>
                  <a:srgbClr val="000000"/>
                </a:solidFill>
                <a:latin typeface="Calibri"/>
              </a:rPr>
              <a:t>achrann an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B. Éist leis an mír anois, an raibh an ceart ag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Plé 1</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46" name="TextBox 6"/>
          <p:cNvSpPr/>
          <p:nvPr/>
        </p:nvSpPr>
        <p:spPr>
          <a:xfrm>
            <a:off x="457200" y="914400"/>
            <a:ext cx="6095880" cy="1018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bhfuil caidreamh maith ann idir na daltaí agus na múinteoirí i do scoil féin? An bhfuil aon chur amach agat ar an suíomh idirlín </a:t>
            </a:r>
            <a:r>
              <a:rPr b="0" lang="en-GB" sz="1800" spc="-1" strike="noStrike" u="sng">
                <a:solidFill>
                  <a:srgbClr val="0000ff"/>
                </a:solidFill>
                <a:uFillTx/>
                <a:latin typeface="Calibri"/>
                <a:hlinkClick r:id="rId1"/>
              </a:rPr>
              <a:t>www.ratemyteacher.com</a:t>
            </a:r>
            <a:r>
              <a:rPr b="0" lang="en-GB" sz="1800" spc="-1" strike="noStrike">
                <a:solidFill>
                  <a:srgbClr val="000000"/>
                </a:solidFill>
                <a:latin typeface="Calibri"/>
              </a:rPr>
              <a:t>? Cad a cheapann tú faoi? Féach ar nóta a scríobh múinteoir ar fhór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 have been named on the site as "Mrs *********** *********** Trainee". The two words used are both very rude and offensive. I have emailed the site using their form twice asking them to either take the listing down or change it to my real name. I have had no response and nothing has happened. I have also joined the site as a teacher member in the hope I could flag an "error" with the spelling of my name, and get it changed. The longer the rude listing stays up, the more kids will read it. Also should I want to move jobs, which I probably will in a year or two, I am scared of this listing being found and it being held against me, perhaps not being invited for intervie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Pléigh na ceisteanna seo leis an duine in aice leat:</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Cad atá ag cur isteach ar an múinteoir? Cén fáth?</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Ar scríobh tú féin aon rud dímheasúil faoi mhúinteoir ar shuíomh mar seo? Cén fáth?</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An gcuirfeadh a leithéid de dhroch-theachtaireacht faoi mhúinteoir isteach ar na seansanna a bheadh aige post eile a fháil? Cén fáth?</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 </a:t>
            </a:r>
            <a:r>
              <a:rPr b="0" lang="ga-IE" sz="1800" spc="-1" strike="noStrike">
                <a:solidFill>
                  <a:srgbClr val="000000"/>
                </a:solidFill>
                <a:latin typeface="Calibri"/>
              </a:rPr>
              <a:t>Ar cheart do mhúinteoirí neamhaird a dhéanamh do na suímh seo nó ar cheart dóibh bheith ag foghlaim ón méid a scríobhtar fúthu?</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Scríobh</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49" name="TextBox 6"/>
          <p:cNvSpPr/>
          <p:nvPr/>
        </p:nvSpPr>
        <p:spPr>
          <a:xfrm>
            <a:off x="457200" y="990720"/>
            <a:ext cx="6095880" cy="1025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éach ar an teachtaireacht arís agus scríobh a ndúirt an múinteoir i do chuid focal féin. Tá gluais ann chun cabhrú libh. Ná déan dearmad don chaint indíreach: </a:t>
            </a:r>
            <a:r>
              <a:rPr b="0" i="1" lang="en-GB" sz="1800" spc="-1" strike="noStrike">
                <a:solidFill>
                  <a:srgbClr val="000000"/>
                </a:solidFill>
                <a:latin typeface="Calibri"/>
              </a:rPr>
              <a:t>Dúirt sí 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 have been named on the site as "Mrs *********** *********** Trainee". The two words used are both very rude and offensive. I have emailed the site using their form twice asking them to either take the listing down or change it to my real name. I have had no response and nothing has happened. I have also joined the site as a teacher member in the hope I could flag an "error" with the spelling of my name, and get it changed. The longer the rude listing stays up, the more kids will read it. Also should I want to move jobs, which I probably will in a year or two, I am scared of this listing being found and it being held against me, perhaps not being invited for inter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inmníodh m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aoi oiliú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íbhéasach agus tarcaisnea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e súil g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o gcuirfeadh sé isteach 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Plé 2</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2" name="TextBox 6"/>
          <p:cNvSpPr/>
          <p:nvPr/>
        </p:nvSpPr>
        <p:spPr>
          <a:xfrm>
            <a:off x="380880" y="914400"/>
            <a:ext cx="6096240" cy="109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éach féin agus an duine in aice leat ar a ndúirt Aoife agus Niall faoina gcuid múinteoir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Calibri"/>
              </a:rPr>
              <a:t>Aoife Ní Chroidhreáin (Coláiste Íosagá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Sílim go mbíonn caidrimh iontach, i ndáiríre idir múinteoirí agus daltaí. Ar ndóigh bíonn laethanta ann a mbíonn na múinteoirí crosta, bíonn na daltaí dána agus ní réitíonn siad ach ceapaim, formhór den am... is dea-chaidreamh a bhíonn ann... tá siad (na múinteoirí) ag iarraidh go mbeidh daltaí in ann marcanna maithe a ghnóthú agus ceapaim go gcabhraíonn siad go mó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Calibri"/>
              </a:rPr>
              <a:t>Niall Mac Dhonnagáin (Coláiste Eo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Tá caidreamh an-mhaith ann. Réitíonn múinteoirí go han-mhaith leis na daltaí. Ar ndóigh bíonn dalta nó dhó ann a bhíonn ag pleidhcíocht sa rang agus bíonn trioblóid ann nuair a tharlaíonn sin ach den chuid is mó den am bíonn na daltaí sásta an obair a dhéanamh agus bíonn na múinteoirí an-chabhrach leis na daltaí. Agus bíonn múinteoirí ann a chuireann ranganna sa bhreis ar siúl má tá fadhbanna ag na daltaí. Ar an Aoine. Agus bíonn na daltaí an-bhuíoch 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Cad a déarfadh sibh fé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Léamh</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5" name="TextBox 6"/>
          <p:cNvSpPr/>
          <p:nvPr/>
        </p:nvSpPr>
        <p:spPr>
          <a:xfrm>
            <a:off x="380880" y="990720"/>
            <a:ext cx="6096240" cy="1124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Féach ar an gclár ama spóirt ó Ghaelscoil Faithleann, Cill Airne, </a:t>
            </a:r>
            <a:br>
              <a:rPr sz="1800"/>
            </a:br>
            <a:r>
              <a:rPr b="0" lang="ga-IE" sz="1800" spc="-1" strike="noStrike">
                <a:solidFill>
                  <a:srgbClr val="000000"/>
                </a:solidFill>
                <a:latin typeface="Calibri"/>
              </a:rPr>
              <a:t>Co. Chiarra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Cúrsaí Spórt sa Sco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Is cuid lárnach é an spórt i saol na Gaelscoile agus tacaíonn sé lenár stádas mar scoil chothaithe sláinte. Baineann gach páiste taitneamh agus tairbhe as an spórt. Tá an t-ádh linn go bhfuil dhá chlós breá, páirc peile, cúirt cispheile agus halla scoile againn. Táimid in aice chlós súgartha an Chomhairle Baile leis agus bíonn deis againn é seo a úsáid go minic. Is maith linn cur leis na hacmhainní atá againn go rial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Pe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Imríonn na buachaillí agus na cailíní peil. Bíonn traenáil iontach á déanamh leo ag múinteoirí sa scoil. Tagann traenálaí breise isteach leis uair sa choicís ón gCumann Lúthchleas Gael. Tá Craobh an Chontae buaite ag cailíní agus buachaillí na scoile le blianta beaga anuas le Cumann na mBunscoil. Glacann na daltaí páirt i bhféile peile </a:t>
            </a:r>
            <a:r>
              <a:rPr b="0" i="1" lang="ga-IE" sz="1900" spc="-1" strike="noStrike">
                <a:solidFill>
                  <a:srgbClr val="000000"/>
                </a:solidFill>
                <a:latin typeface="Calibri"/>
              </a:rPr>
              <a:t>Gael Linn </a:t>
            </a:r>
            <a:r>
              <a:rPr b="0" lang="ga-IE" sz="1900" spc="-1" strike="noStrike">
                <a:solidFill>
                  <a:srgbClr val="000000"/>
                </a:solidFill>
                <a:latin typeface="Calibri"/>
              </a:rPr>
              <a:t>leis agus bhíodar i gCorca Dhuibhne agus Béal Átha’n Ghaorthaidh le dhá bhliain anua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Snámh</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Téann ranganna 3, 4, 5 agus 6 ag snámh sa linn snámha áitiúil ar feadh tréimhse sé seachtaine i rith na scoilbhliana. Bíonn ranganna snámha ag na páistí ansin. Tá sé mar aidhm againn go mbeidh deis ag gach páiste scileanna snámha a bheith acu.</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Léamh</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8" name="TextBox 6"/>
          <p:cNvSpPr/>
          <p:nvPr/>
        </p:nvSpPr>
        <p:spPr>
          <a:xfrm>
            <a:off x="304920" y="1295280"/>
            <a:ext cx="6095880" cy="929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Cisphe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Tacaíonn ár dtuismitheoirí linn le traenáil chispheile agus glacann na daltaí páirt sa “Killarney Schools Basketball League”, comórtas atá buaite againn cúpla uair le blianta beaga anua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Iománaíocht agus Camógaíoch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Tagann traenálaithe iománaíochta agus camógaíochta go dtí an scoil. Cé nach bhfuil siad rόchomónta i gCill Airne mar chluichí tá an-chuid oibre ar siúl ag na clubanna áitiúla chun an iománaíocht agus an chamógaíocht a chur chun cinn sna scoileann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Spikeball, Rugbaí agus Saca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Bímid ag imirt na cluichí seo go rialta ar scoil leis agus ag glacadh páirte i gcomórtais éagsúla leo. Is cluichí nua iad spikeball agus rugbaí sa sco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900" spc="-1" strike="noStrike">
                <a:solidFill>
                  <a:srgbClr val="000000"/>
                </a:solidFill>
                <a:latin typeface="Calibri"/>
              </a:rPr>
              <a:t>Lúthchleasaíoch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900" spc="-1" strike="noStrike">
                <a:solidFill>
                  <a:srgbClr val="000000"/>
                </a:solidFill>
                <a:latin typeface="Calibri"/>
              </a:rPr>
              <a:t>Glacann na daltaí páirt i lúthchleasaíocht scoile sa Chontae agus bíonn lá spóirt againn sa scoil gach bliain. Tá an lá spóirt seo bunaithe go hiomlán ar pháirt a ghlacadh agus spraoi a bhaint as spór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Plé &amp; scríobh</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61" name="TextBox 6"/>
          <p:cNvSpPr/>
          <p:nvPr/>
        </p:nvSpPr>
        <p:spPr>
          <a:xfrm>
            <a:off x="380880" y="990720"/>
            <a:ext cx="6096240" cy="1266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Calibri"/>
              </a:rPr>
              <a:t>A</a:t>
            </a:r>
            <a:r>
              <a:rPr b="0" lang="en-IE" sz="1900" spc="-1" strike="noStrike">
                <a:solidFill>
                  <a:srgbClr val="000000"/>
                </a:solidFill>
                <a:latin typeface="Calibri"/>
              </a:rPr>
              <a:t>. Bí ag obair leis an duine in aice leat agus déanaigí bhur machnamh ar chúrsaí spóirt in bhur scoil féin. Ná déanaigí dearmad ar na pointí seo:</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Gach spórt a dhéantar sa scoil</a:t>
            </a: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Aon chomórtais a bhuann an scoil</a:t>
            </a: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a háiseanna spóirt atá sa scoil</a:t>
            </a: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Ráiteas misin an scoil faoi spóirt</a:t>
            </a: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An méid múinteoirí agus traenálaithe spóir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Calibri"/>
              </a:rPr>
              <a:t>B</a:t>
            </a:r>
            <a:r>
              <a:rPr b="0" lang="en-IE" sz="1900" spc="-1" strike="noStrike">
                <a:solidFill>
                  <a:srgbClr val="000000"/>
                </a:solidFill>
                <a:latin typeface="Calibri"/>
              </a:rPr>
              <a:t>. Scríobh leathanach do shuíomh idirlín anois faoi chúrsaí spóirt sa sco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Calibri"/>
              </a:rPr>
              <a:t>C</a:t>
            </a:r>
            <a:r>
              <a:rPr b="0" lang="en-IE" sz="1900" spc="-1" strike="noStrike">
                <a:solidFill>
                  <a:srgbClr val="000000"/>
                </a:solidFill>
                <a:latin typeface="Calibri"/>
              </a:rPr>
              <a:t>. Bí ag obair i ngrúpa agus pléigí na ráitis seo:</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Mura ndéanann déagóir spórt ní féidir leis bheith sláintiúi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Cuireann spórt le féinmhuinín an déagór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Cuireann spórt isteach ar shláinte an déagóra mar </a:t>
            </a:r>
            <a:r>
              <a:rPr b="0" lang="ga-IE" sz="2200" spc="-1" strike="noStrike">
                <a:solidFill>
                  <a:srgbClr val="000000"/>
                </a:solidFill>
                <a:latin typeface="Calibri"/>
              </a:rPr>
              <a:t>is féidir leis dochar fadtéarmach a dhéanamh don chorp.</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200" spc="-1" strike="noStrike">
                <a:solidFill>
                  <a:srgbClr val="000000"/>
                </a:solidFill>
                <a:latin typeface="Calibri"/>
              </a:rPr>
              <a:t>Is féidir le géariomaíocht sa spórt féinmhuinín an déagóra a ísliú.</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http://www.gaelscoilfaithleann.com/fckeditor/editor/filemanager/connectors/aspx/uploadedImages/image/sport1.jpg"/>
          <p:cNvPicPr/>
          <p:nvPr/>
        </p:nvPicPr>
        <p:blipFill>
          <a:blip r:embed="rId1"/>
          <a:stretch/>
        </p:blipFill>
        <p:spPr>
          <a:xfrm>
            <a:off x="4114800" y="1752480"/>
            <a:ext cx="2057400" cy="15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ight Arrow 3"/>
          <p:cNvSpPr/>
          <p:nvPr/>
        </p:nvSpPr>
        <p:spPr>
          <a:xfrm>
            <a:off x="457200" y="838080"/>
            <a:ext cx="4724280" cy="46080"/>
          </a:xfrm>
          <a:prstGeom prst="rightArrow">
            <a:avLst>
              <a:gd name="adj1" fmla="val 50000"/>
              <a:gd name="adj2" fmla="val 49838"/>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E" sz="3200" spc="-1" strike="noStrike">
                <a:solidFill>
                  <a:srgbClr val="000000"/>
                </a:solidFill>
                <a:latin typeface="Calibri"/>
              </a:rPr>
              <a:t>Caidrimh sa scoil</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600" spc="-1" strike="noStrike">
                <a:solidFill>
                  <a:srgbClr val="000000"/>
                </a:solidFill>
                <a:latin typeface="Calibri"/>
              </a:rPr>
              <a:t>Plé 3</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65" name="TextBox 6"/>
          <p:cNvSpPr/>
          <p:nvPr/>
        </p:nvSpPr>
        <p:spPr>
          <a:xfrm>
            <a:off x="380880" y="990720"/>
            <a:ext cx="6096240" cy="911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Deir Corma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a:t>
            </a:r>
            <a:r>
              <a:rPr b="0" lang="en-GB" sz="2000" spc="-1" strike="noStrike">
                <a:solidFill>
                  <a:srgbClr val="000000"/>
                </a:solidFill>
                <a:latin typeface="Calibri"/>
              </a:rPr>
              <a:t>Mar gheall ar na scoileanna beaga tuaithe, bíonn an-aithne acu ar a chéile, fiú, bíonn aithne acu ar go leor daoine sa scoil, agus iad ag teacht isteach anseo sa gcéad bhliain.’</a:t>
            </a:r>
            <a:r>
              <a:rPr b="0" lang="en-IE" sz="1900" spc="-1" strike="noStrike">
                <a:solidFill>
                  <a:srgbClr val="000000"/>
                </a:solidFill>
                <a:latin typeface="Calibri"/>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Beidh sibh ag déanamh díospóireachta i gceann tamaill faoin rú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200" spc="-1" strike="noStrike">
                <a:solidFill>
                  <a:srgbClr val="000000"/>
                </a:solidFill>
                <a:latin typeface="Calibri"/>
              </a:rPr>
              <a:t>Is fearr an t-oideachas a fhaightear i scoil bheag tuaithe ná i scoil mhór chathrac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Féachaigí ar na buntáistí a bhaineann leis an dá chineál scoile thíos sula bpléifidh sibh bhur bpointí le chéil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533520" y="6019920"/>
          <a:ext cx="5486400" cy="2382840"/>
        </p:xfrm>
        <a:graphic>
          <a:graphicData uri="http://schemas.openxmlformats.org/drawingml/2006/table">
            <a:tbl>
              <a:tblPr/>
              <a:tblGrid>
                <a:gridCol w="2743200"/>
                <a:gridCol w="2743200"/>
              </a:tblGrid>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Scoil bheag tuaith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Scoil mhór chathr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pearsant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mó béime ar an dalt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tugann tuismitheoirí na ndaltaí níos mó tacaíocht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cairdiúl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réchúisí </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níos mó áiseanna</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córas taistil chun na scoile níor fearr</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sochaí ilchultúrth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Aisling Pink iPod</cp:lastModifiedBy>
  <dcterms:modified xsi:type="dcterms:W3CDTF">2012-09-26T19:47:12Z</dcterms:modified>
  <cp:revision>39</cp:revision>
  <dc:subject/>
  <dc:title>Slide 1</dc:title>
</cp:coreProperties>
</file>