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0B45-AD4B-40D7-A80C-CD8F06567A9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D8B-71E8-4C50-AB1D-C2134AE30B1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FA6-E399-4414-9C88-CDE87731682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EAA6-CA2E-4AA2-A57C-BB99BD11222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4E5-A4DD-4609-92B9-4BB43C52E37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F396-115E-4990-A85D-496576E364B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8F07-0372-4F4E-9DBB-2527F57AA95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8E1-1EDB-477C-8EE7-BE0A712CE3E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7AA-2094-418C-BB15-62D456B9EC1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C157-0B6C-45B6-89B8-945E4A3B921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80A-CACF-4E6D-AD9C-D1F601BA95CD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1491-9080-49B0-A21E-9E551D7489F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2CAC-6A7A-4661-9E35-1AD8C999522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6F1-E69B-4914-84AE-1E8B8498544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7D2-7E48-4FE7-9A61-30C66954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65B-D629-4A92-9D2A-46F79F7C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8B4B-6CEC-4792-A60C-99D7C0E5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4F8-27EC-4CE9-A579-BD959CFA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2BD-B445-40C7-A2DE-C190EDE7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E93-6F11-485E-90A3-D6D986EE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C8D-4F92-48F3-8A59-13DC90A9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74B-5DB5-4F1E-A062-0224F958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9AC-5BA7-4AF7-BA81-DB16A507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D70-0A8B-4EF7-B23D-4D1ABF2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DD5-C32A-4582-B306-15A21C2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F79-D7C7-4AEC-AEC3-597CB6C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8559-8055-45E4-B51F-C03F948E5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594360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 gceann tamaill beidh tú ag éisteacht le dalta ag c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 a teaghlach. Ach ar dtús cuir Gaeilge ar na focail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frásaí seo a bhaineann le teaghl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 big fam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alf/step brother or si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enga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 a relationship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vor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epar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husb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w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other in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ather in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*brother in law / *sister in 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godmother / godfather / godchi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irst cou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econd cous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win / half-t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 married cou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dop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o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Réamhobair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Arrow 6"/>
          <p:cNvSpPr/>
          <p:nvPr/>
        </p:nvSpPr>
        <p:spPr>
          <a:xfrm>
            <a:off x="609480" y="838080"/>
            <a:ext cx="4724640" cy="4608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Nósanna Gaeltachta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r thug tú riamh faoi deara gur aon uair a deir duine éigin rud éigin moltach faoi dhuine go ndeir siad i gcónaí ‘bail ó Dhia air’ nó ‘bail ó Dhia uirthi’ ina dhiaid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Mar shampl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Tá Sinéad an-mhaith ag díospóireacht, bail ó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Dhia uirthi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Nó :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- Ceoltóir iontach is ea Eo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- Sea. Bail ó Dhia a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Is nós Gaeltachta é sin. Ach cad as a tháinig sé an chéad l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6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09680" y="5715000"/>
            <a:ext cx="2248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Léigh an dán seo le Máirtín Ó Direá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Faoiseamh a Gheobhad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Faoiseamh a gheobhad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Seal beag gai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I measc mo dhao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r oileán mar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g siúl cois clada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Maidin is tráthnó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Luan go Satha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Thiar ag ba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Faoiseamh a gheobhad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Seal beag gair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I measc mo dhao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chrá chroí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bhuairt aig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uaigneas dhuairc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Ó chaint ghont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Thiar ag ba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Léamh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Is minic a deirtear faoin dán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Faoiseamh a Gheobhadsa </a:t>
            </a: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g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dán é faoin difear atá idir saol na tuaithe agus saol 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cathrach agus an faoiseamh a bhraitheann an file nuair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fhágann sé Baile Átha Cliath le filleadh ar Inis Mó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Ach d’fhéadfaí a áiteamh chomh maith gur dán é fa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bhfaoiseamh aigne a bhraithimid ar fad nuair a bhímid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measc ár muintir féin, is cuma an daoine tuaithe nó cathr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Calibri"/>
              </a:rPr>
              <a:t>iad. Scríobh cúpla alt i do chóipleabhar ar gach ceist thí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Cad iad na cúiseanna a mbraithfeadh daoine an faoiseamh nó suaimhneas aigne agus iad i measc a muintire féi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Cén saghas pobail atá san áit ina bhfuil tusa i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chónaí? Cén saghas tréithe a bhaineann le muintir na háite ann, dar leat? (Is féidir le pobal a bheith an-leathan - muintir Bhaile Átha Cliath, mar shampl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r chaith tú riamh tréimhse ama as baile? Conas a bhraith tú ann? An gceapann tú gur rud maith é tréimhse ama a chaitheamh i dteaghlach / i bpobal eile? Cén fát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(léamh)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Chez Les Nouvions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tú ag déanamh malartú le teaghlach Francach, 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Nouvions . Tá tusa ag caitheamh trí seachtaine i do chónaí l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gus beidh mac/iníon den teaghlach ag fanacht i do theach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a dhiaidh s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críobh litir abhaile chuig duine de do mhuintir féin ag c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íos ar conas atá ag éirí leat. Déan cur síos ar nósanna 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eaghlaigh agus ar na mothúcháin atá agat. Úsáid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shamhlaíoch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Scríobh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95280" y="3048120"/>
            <a:ext cx="357192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5943600" cy="75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uir an aidiacht ‘mór’ leis na hainmfhocail teaghlach agus clann. An dtagann aon athrú ar ‘mór’? Cén fát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teaghlach ___________       clann 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uir an focal ‘céile’ tar éis na hainmfhocail ‘fear’ agus ‘bean’. An dtagann aon athrú ar ‘céile’? Cén fát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fear___________       bean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éan an rud céanna anois leo seo ag úsáid ‘céile’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athair___________       máthair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a Bhéarla úsáidtear an téarma </a:t>
            </a:r>
            <a:r>
              <a:rPr b="0" i="1" lang="en-IE" sz="2000" spc="-1" strike="noStrike">
                <a:solidFill>
                  <a:srgbClr val="000000"/>
                </a:solidFill>
                <a:latin typeface="Calibri"/>
              </a:rPr>
              <a:t>brother in law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ó </a:t>
            </a:r>
            <a:r>
              <a:rPr b="0" i="1" lang="en-IE" sz="2000" spc="-1" strike="noStrike">
                <a:solidFill>
                  <a:srgbClr val="000000"/>
                </a:solidFill>
                <a:latin typeface="Calibri"/>
              </a:rPr>
              <a:t>sister in law 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hun cur síos a dhéanamh ar dhá chineál dhuin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1. An duine atá pósta ag do dheartháir/ag do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heirfiú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2. Deartháir nó deirfiúr do chéile fé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ch sa Ghaeilge ní féidir an téarma ‘deartháir céile’ n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eirfiúr céile’ a úsáid ach amháin chun cur síos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héanamh ar chineál amháin gaoil. Cén ceann, 1. nó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uas? Conas a chuirfeá síos ar an ngaol eile as Gaeil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ga-IE" sz="2000" spc="-1" strike="noStrike">
                <a:solidFill>
                  <a:srgbClr val="000000"/>
                </a:solidFill>
                <a:latin typeface="Calibri"/>
              </a:rPr>
              <a:t>Réamhobair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ight Arrow 6"/>
          <p:cNvSpPr/>
          <p:nvPr/>
        </p:nvSpPr>
        <p:spPr>
          <a:xfrm>
            <a:off x="609480" y="838080"/>
            <a:ext cx="4724640" cy="46080"/>
          </a:xfrm>
          <a:prstGeom prst="rightArrow">
            <a:avLst>
              <a:gd name="adj1" fmla="val 50000"/>
              <a:gd name="adj2" fmla="val 498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Éisteacht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609480" y="914400"/>
            <a:ext cx="579132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Éist le Deirdre Seoige ó Scoil Chuimsitheach Chiará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Calibri"/>
              </a:rPr>
              <a:t>agus freagair na ceisteanna s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é mhéad duine atá i dteaghlach Dheird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á dtagann sí féin sa teaghl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Cad a dúirt Deirdre faoina deartháireacha agus deirfiúracha níos s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ight Arrow 5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(a) Pléigh na ceisteanna seo leis an duine in aice le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á teaghlach mór ag Deirdre. Cé acu ab fhearr leatsa, a bheith mar chuid de theaghlach mór nó beag? Cén fát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Is iad Deirdre agus a deartháir na daoine is óige sa chlann. Cé acu is fearr, a bheith ar an duine is óige, an duine is sine, nó sa lár, dar leat? Cén fát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An mbíonn tréithe difriúla ag deartháireacha/deirfiúracha ag brath ar cén áit a dtagann siad sa chlann? An mbíonn taithí saoil difriúil acu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Calibri"/>
              </a:rPr>
              <a:t>(b) Cuir Gaeilge ar na frásaí se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She looks like her m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He looks like his br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hey’re very clos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hey get on very well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They’re always fight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1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ad atá i gceist leis an seanfhocal se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Briseann an dúchas trí shúile an cha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gus na cinn se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Is geal leis an bhfiach dubh a gearrcach fé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Is minic a bhí uan dubh ag caora bá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maoinigh ar chásanna ina bhféadfaí na seanfhoc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huas a úsáid agus scríobh i do chóipleabhar i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s féidir go leor úsáide a bhaint as an bhfocal ‘dúchas’ 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Ghaeilge. Féach ar na habairtí seo a leanas – 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tuigeann tú cad atá i gceist leis an úsáid atáthar 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aint as an gciall ‘dúchas’ iontu ar fa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s ceoltóir iontach é. Tá sé sa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úchas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ai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Is cainteoir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úchais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Gaeilge 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í planda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dúchasach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é an fhiú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ndéantar leatrom ar na </a:t>
            </a: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bundúchasaigh</a:t>
            </a: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 i Meiriceá Thea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críobh abairtí de do chuid féin i do chóipleabh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g úsáid na bhfrásaí seo a leanas lena mbrí a léiri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á sé sa dúchas ag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Sin é an dúchas aga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Nathanna cainte dúchasach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3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Nósanna Gaeltachta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Tá córas speisialta ainmnithe ann sa Ghaeltacht ina nasctar ainm baiste an duine le hainm baiste a athar (nó uaireanta a mháthar), mar shampla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Johnny Mhaidhc (Maidhc ainm athair Johnn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Nellie Tom (Tom ainm athair Nelli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Nuair a bhíonn ainm an athar ceangailte go dlúth le hainm a athar siúd bíonn trí ainm ag an duine, mar shampla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Pádraig Jimí Sheáinín (Jimí Sheáinín a thugtaí ar athar Phádraig toisc Seáinín a bheith ar a athair siú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900" spc="-1" strike="noStrike">
                <a:solidFill>
                  <a:srgbClr val="000000"/>
                </a:solidFill>
                <a:latin typeface="Calibri"/>
              </a:rPr>
              <a:t>Máire Tom Neidí (Tom Neidí a thugtaí ar athair Mháire toisc Neidí a bheith ar a athair siú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Gan amhras bíonn an tuiseal ginideach i gceist leis na hainmneacha nuair is féidir é a chur i bhfeidhm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An féidir leat smaoineamh ar shamplaí ó do cheantar féin (má tá tú i do chónaí sa Ghaeltacht)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An úsáideann tusa an córas Gaeltachta seo i measc do chairde (má tá tú i do chónaí sa Ghaeltacht)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900" spc="-1" strike="noStrike">
                <a:solidFill>
                  <a:srgbClr val="000000"/>
                </a:solidFill>
                <a:latin typeface="Calibri"/>
              </a:rPr>
              <a:t>Cén ‘t-ainm Gaeltachta’ atá/a bheadh ort féin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4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Calibri"/>
              </a:rPr>
              <a:t>Nósanna Gaeltachta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Cad is féidir linn a thuiscint mar gheall ar chultúr na Gaeltachta ón méid sin thuas? Cad a deir sé mar gheall orainn mar phoba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dóigh leat gur drochrud é nach bhfuil an t-eolas sin ag daoine óga a thuilleadh nó an bhfuil aon tábhacht ag baint leis, i do thuairi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Tá slí an-speisialta ag muintir na Gaeltachta chun an cheist ‘Who are you?’ a chur. Deir siad, ‘Cé leis tú?’ Cad a léiríonn sé sin dúinn faoi chultúr na Gaeltacht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mbaintear úsáid as an gceist sin ‘Cé leis tú?’ mórán na laethanta seo? Cén fáth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ga-IE" sz="1800" spc="-1" strike="noStrike">
                <a:solidFill>
                  <a:srgbClr val="000000"/>
                </a:solidFill>
                <a:latin typeface="Calibri"/>
              </a:rPr>
              <a:t>Iarobair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43000" y="1477800"/>
          <a:ext cx="4572000" cy="2560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easc aoisghrúpaí áirithe daoine sa Ghaeltacht, tá an-eolas ar ghaolta daoine. Bíonn a fhios ag daoine, ní hamháin cé hiad na deartháireacha agus na deirfiúracha atá ag daoine eile ach bíonn a fhios acu chomh maith cén col ceathracha agus cén col seisreacha atá acu; cad as a tháinig siad agus fiú amháin úinéireacht talún ó ghlúin go glúin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5943600" cy="77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bha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r thug tú riamh faoi deara gur ionann an focal ar ‘home’ agus ‘village’ /‘town’ sa Ghaeilg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 chúis atá leis sin ná fadó riamh in Éirinn bhí cean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an-dlúth idir an t-aonad teaghlaigh (máthair, athai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deartháireacha agus deirfiúracha) agus na daoine eile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bhí ina gcónaí sa phobal céan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380880" y="228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o theaghlach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IE" sz="1800" spc="-1" strike="noStrike">
                <a:solidFill>
                  <a:srgbClr val="000000"/>
                </a:solidFill>
                <a:latin typeface="Calibri"/>
              </a:rPr>
              <a:t>Ábhar machnaimh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1100" spc="-1" strike="noStrike">
                <a:solidFill>
                  <a:srgbClr val="000000"/>
                </a:solidFill>
                <a:latin typeface="Calibri"/>
              </a:rPr>
              <a:t>    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6"/>
          <p:cNvSpPr/>
          <p:nvPr/>
        </p:nvSpPr>
        <p:spPr>
          <a:xfrm>
            <a:off x="533520" y="838080"/>
            <a:ext cx="4724280" cy="46080"/>
          </a:xfrm>
          <a:prstGeom prst="rightArrow">
            <a:avLst>
              <a:gd name="adj1" fmla="val 50000"/>
              <a:gd name="adj2" fmla="val 4983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371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Ogras Laighain</cp:lastModifiedBy>
  <dcterms:modified xsi:type="dcterms:W3CDTF">2012-09-27T10:31:33Z</dcterms:modified>
  <cp:revision>139</cp:revision>
  <dc:subject/>
  <dc:title>Cad atá ar eolas agat faoi Chúba?</dc:title>
</cp:coreProperties>
</file>