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9C8E-0304-4E3B-9CA6-75C617B2F3B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8C1-77EF-4E47-AA0A-31426CBFFD9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CAC-42CD-48CE-9DC8-BB9D8D89782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F404-EEE5-4CC7-8996-C5B7D475815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082C-A605-4690-9896-3AD0D3BBF7FD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366B-3A85-44EA-BE49-00A887C7A1B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807A-CFB3-456A-B75D-CE6A2054947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8D8-4E5B-4644-BB1C-D8D5AB4F055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0F2-B704-4D14-8AB4-14637FE4ABA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7DEB-730F-45B6-A616-BDEA07C5E9B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2DC1-E470-44C2-AF0F-AB1ED5D7902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C067-4C51-490D-8EE9-3AB5343E7A3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194C-3F35-4F31-B65A-445F6E7FD02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1E8C-AD78-42AE-9EC2-053A8D8EACD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F04-FF7C-4DFA-AE8C-2FF7A599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CD0-ED98-45A6-9251-947C464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A7D-F4B8-48EB-BD06-0E49193A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8AC-249E-4F2B-91B4-DF756821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549-6A6E-4B28-ACD1-702F521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FBE-FCBA-4B0D-B184-103C8DD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EF3-8447-47A8-8FB2-E1AE2DBE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597-5944-4A5F-B919-B6A88994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482-90ED-4D40-A60A-8AB7D36F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266-52FA-4BCD-A6CA-7B3F5C1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599-336F-4020-9B2F-5B395AB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186-6062-459C-B882-644134B0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059-6B5B-46BD-93F2-3C3D7E66D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594360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gceann tamaill beidh tú ag éisteacht le dalta ag c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 a teaghlach. Ach ar dtús cuir Gaeilge ar na focail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rásaí seo a bhaineann le teaghl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 big fam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alf/step brother or si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 a relationship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vor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epar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us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w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other in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ather in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*brother in law / *sister in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godmother / godfather / godchi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irst cou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econd cou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win / half-t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 married cou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dop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o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Réamhobair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6"/>
          <p:cNvSpPr/>
          <p:nvPr/>
        </p:nvSpPr>
        <p:spPr>
          <a:xfrm>
            <a:off x="609480" y="838080"/>
            <a:ext cx="4724640" cy="4608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Nósanna Gaeltachta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r thug tú riamh faoi deara gur aon uair a deir duine éigin rud éigin moltach faoi dhuine go ndeir siad i gcónaí ‘bail ó Dhia air’ nó ‘bail ó Dhia uirthi’ ina dhiaid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Mar shamp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Tá Sinéad an-mhaith ag díospóireacht, bail ó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Dhia uirthi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Nó :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- Ceoltóir iontach is ea Eo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- Sea. Bail ó Dhia a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Is nós Gaeltachta é sin. Ach cad as a tháinig sé an chéad l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6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09680" y="5715000"/>
            <a:ext cx="2248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Léigh an dán seo le Máirtín Ó Direá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Faoiseamh a Gheobhad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Faoiseamh a gheobhad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Seal beag gai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I measc mo dhao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r oileán mar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g siúl cois clada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Maidin is tráthnó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Luan go Satha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Thiar ag ba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Faoiseamh a gheobhad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Seal beag gai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I measc mo dhao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chrá chroí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bhuairt aig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uaigneas dhuairc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chaint ghont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Thiar ag ba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Léamh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Is minic a deirtear faoin dán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Faoiseamh a Gheobhadsa 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g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dán é faoin difear atá idir saol na tuaithe agus saol 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cathrach agus an faoiseamh a bhraitheann an file nuair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fhágann sé Baile Átha Cliath le filleadh ar Inis Mó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ch d’fhéadfaí a áiteamh chomh maith gur dán é fa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bhfaoiseamh aigne a bhraithimid ar fad nuair a bhímid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measc ár muintir féin, is cuma an daoine tuaithe nó cathr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iad. Scríobh cúpla alt i do chóipleabhar ar gach ceist thí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Cad iad na cúiseanna a mbraithfeadh daoine an faoiseamh nó suaimhneas aigne agus iad i measc a muintire féi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Cén saghas pobail atá san áit ina bhfuil tusa i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chónaí? Cén saghas tréithe a bhaineann le muintir na háite ann, dar leat? (Is féidir le pobal a bheith an-leathan - muintir Bhaile Átha Cliath, mar shampl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r chaith tú riamh tréimhse ama as baile? Conas a bhraith tú ann? An gceapann tú gur rud maith é tréimhse ama a chaitheamh i dteaghlach / i bpobal eile? Cén fát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(léamh)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Chez Les Nouvion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tú ag déanamh malartú le teaghlach Francach, 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Nouvions . Tá tusa ag caitheamh trí seachtaine i do chónaí 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gus beidh mac/iníon den teaghlach ag fanacht i do theach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a dhiaidh s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críobh litir abhaile chuig duine de do mhuintir féin ag c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íos ar conas atá ag éirí leat. Déan cur síos ar nósanna 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eaghlaigh agus ar na mothúcháin atá agat. Úsáid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hamhlaíoch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Scríobh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35719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594360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uir an aidiacht ‘mór’ leis na hainmfhocail teaghlach agus clann. An dtagann aon athrú ar ‘mór’? Cén fát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teaghlach ___________       clann 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uir an focal ‘céile’ tar éis na hainmfhocail ‘fear’ agus ‘bean’. An dtagann aon athrú ar ‘céile’? Cén fát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fear___________       bean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éan an rud céanna anois leo seo ag úsáid ‘céile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athair___________       máthair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a Bhéarla úsáidtear an téarma </a:t>
            </a:r>
            <a:r>
              <a:rPr b="0" i="1" lang="en-IE" sz="2000" spc="-1" strike="noStrike">
                <a:solidFill>
                  <a:srgbClr val="000000"/>
                </a:solidFill>
                <a:latin typeface="Calibri"/>
              </a:rPr>
              <a:t>brother in law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ó </a:t>
            </a:r>
            <a:r>
              <a:rPr b="0" i="1" lang="en-IE" sz="2000" spc="-1" strike="noStrike">
                <a:solidFill>
                  <a:srgbClr val="000000"/>
                </a:solidFill>
                <a:latin typeface="Calibri"/>
              </a:rPr>
              <a:t>sister in law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hun cur síos a dhéanamh ar dhá chineál dhuin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1. An duine atá pósta ag do dheartháir/ag do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heirfiú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2. Deartháir nó deirfiúr do chéile fé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ch sa Ghaeilge ní féidir an téarma ‘deartháir céile’ n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eirfiúr céile’ a úsáid ach amháin chun cur síos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héanamh ar chineál amháin gaoil. Cén ceann, 1. nó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uas? Conas a chuirfeá síos ar an ngaol eile as Gaeil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Réamhobair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6"/>
          <p:cNvSpPr/>
          <p:nvPr/>
        </p:nvSpPr>
        <p:spPr>
          <a:xfrm>
            <a:off x="609480" y="838080"/>
            <a:ext cx="4724640" cy="4608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Éisteacht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09480" y="914400"/>
            <a:ext cx="579132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Éist le Deirdre Seoige ó Scoil Chuimsitheach Chiará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gus freagair na ceisteanna s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é mhéad duine atá i dteaghlach Dheird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á dtagann sí féin sa teaghl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ad a dúirt Deirdre faoina deartháireacha agus deirfiúracha níos s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5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(a) Pléigh na ceisteanna seo leis an duine in aice le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á teaghlach mór ag Deirdre. Cé acu ab fhearr leatsa, a bheith mar chuid de theaghlach mór nó beag? Cén fát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Is iad Deirdre agus a deartháir na daoine is óige sa chlann. Cé acu is fearr, a bheith ar an duine is óige, an duine is sine, nó sa lár, dar leat? Cén fát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An mbíonn tréithe difriúla ag deartháireacha/deirfiúracha ag brath ar cén áit a dtagann siad sa chlann? An mbíonn taithí saoil difriúil acu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(b) Cuir Gaeilge ar na frásaí se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She looks like her m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He looks like his br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hey’re very clos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hey get on very wel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hey’re always figh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ad atá i gceist leis an seanfhocal se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Briseann an dúchas trí shúile an cha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gus na cinn se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Is geal leis an bhfiach dubh a gearrcach fé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Is minic a bhí uan dubh ag caora bá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maoinigh ar chásanna ina bhféadfaí na seanfhoc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uas a úsáid agus scríobh i do chóipleabhar i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s féidir go leor úsáide a bhaint as an bhfocal ‘dúchas’ 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Ghaeilge. Féach ar na habairtí seo a leanas –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tuigeann tú cad atá i gceist leis an úsáid atáthar 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aint as an gciall ‘dúchas’ iontu ar fa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s ceoltóir iontach é. Tá sé sa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úchas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ai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s cainteoir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úchais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Gaeilge 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í planda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úchasach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é an fhiú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ndéantar leatrom ar na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bundúchasaigh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i Meiriceá Thea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críobh abairtí de do chuid féin i do chóipleabh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g úsáid na bhfrásaí seo a leanas lena mbrí a léiri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á sé sa dúchas ag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in é an dúchas aga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athanna cainte dúchasac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Nósanna Gaeltachta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Tá córas speisialta ainmnithe ann sa Ghaeltacht ina nasctar ainm baiste an duine le hainm baiste a athar (nó uaireanta a mháthar), mar shampla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Johnny Mhaidhc (Maidhc ainm athair Johnn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Nellie Tom (Tom ainm athair Nelli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Nuair a bhíonn ainm an athar ceangailte go dlúth le hainm a athar siúd bíonn trí ainm ag an duine, mar shampla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Pádraig Jimí Sheáinín (Jimí Sheáinín a thugtaí ar athar Phádraig toisc Seáinín a bheith ar a athair siú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Máire Tom Neidí (Tom Neidí a thugtaí ar athair Mháire toisc Neidí a bheith ar a athair siú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Gan amhras bíonn an tuiseal ginideach i gceist leis na hainmneacha nuair is féidir é a chur i bhfeidhm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An féidir leat smaoineamh ar shamplaí ó do cheantar féin (má tá tú i do chónaí sa Ghaeltacht)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An úsáideann tusa an córas Gaeltachta seo i measc do chairde (má tá tú i do chónaí sa Ghaeltacht)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Cén ‘t-ainm Gaeltachta’ atá/a bheadh ort féin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Nósanna Gaeltachta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ad is féidir linn a thuiscint mar gheall ar chultúr na Gaeltachta ón méid sin thuas? Cad a deir sé mar gheall orainn mar phoba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dóigh leat gur drochrud é nach bhfuil an t-eolas sin ag daoine óga a thuilleadh nó an bhfuil aon tábhacht ag baint leis, i do thuairi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á slí an-speisialta ag muintir na Gaeltachta chun an cheist ‘Who are you?’ a chur. Deir siad, ‘Cé leis tú?’ Cad a léiríonn sé sin dúinn faoi chultúr na Gaeltacht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mbaintear úsáid as an gceist sin ‘Cé leis tú?’ mórán na laethanta seo? Cén fáth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43000" y="1477800"/>
          <a:ext cx="4572000" cy="2560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easc aoisghrúpaí áirithe daoine sa Ghaeltacht, tá an-eolas ar ghaolta daoine. Bíonn a fhios ag daoine, ní hamháin cé hiad na deartháireacha agus na deirfiúracha atá ag daoine eile ach bíonn a fhios acu chomh maith cén col ceathracha agus cén col seisreacha atá acu; cad as a tháinig siad agus fiú amháin úinéireacht talún ó ghlúin go glúin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bha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 thug tú riamh faoi deara gur ionann an focal ar ‘home’ agus ‘village’ /‘town’ sa Ghaeil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chúis atá leis sin ná fadó riamh in Éirinn bhí cean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-dlúth idir an t-aonad teaghlaigh (máthair, athai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eartháireacha agus deirfiúracha) agus na daoine eile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hí ina gcónaí sa phobal céan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Ábhar machnaimh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37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Ogras Laighain</cp:lastModifiedBy>
  <dcterms:modified xsi:type="dcterms:W3CDTF">2012-09-27T10:31:33Z</dcterms:modified>
  <cp:revision>139</cp:revision>
  <dc:subject/>
  <dc:title>Cad atá ar eolas agat faoi Chúba?</dc:title>
</cp:coreProperties>
</file>