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3FE8-8B50-4158-8B3E-9274B4583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2D6B-24E6-49DE-B62D-3BC59723D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951C-E785-49B9-AD0B-BDB1CF06A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3A58-E98F-4159-A52E-D2663F60E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32AC-76E1-4B58-BACB-D6C3F7CC5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A134-894B-430F-B75A-C0F3277D1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CAC9-97F5-4187-B60C-2F749A609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DCAE-3379-41FD-B6FB-3F2F89FA0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5A47-A520-42B7-9F92-59866BC54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C80B-79CC-4E18-BC10-CAB3A19B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A671-5DBB-4249-B047-82B353A3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3003-9732-42E1-A513-16AF8956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4BF4D-81E9-4014-90CD-3636AF6666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alibri"/>
              </a:rPr>
              <a:t>An Aidiacht </a:t>
            </a:r>
            <a:r>
              <a:rPr b="1" lang="en-IE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29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IE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29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E" sz="1600" spc="-1" strike="noStrike">
                <a:solidFill>
                  <a:srgbClr val="000000"/>
                </a:solidFill>
                <a:latin typeface="Calibri"/>
              </a:rPr>
              <a:t>séimhiú</a:t>
            </a:r>
            <a:r>
              <a:rPr b="1" lang="en-IE" sz="2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09480" y="2286000"/>
          <a:ext cx="5639040" cy="435924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</a:tblGrid>
              <a:tr h="244440"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idiacht (+ séimhiú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én fáth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uiscint mha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r bhea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ean dhe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eaghlaigh mhó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ist dheaca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TextBox 9"/>
          <p:cNvSpPr/>
          <p:nvPr/>
        </p:nvSpPr>
        <p:spPr>
          <a:xfrm>
            <a:off x="533520" y="106668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Féach ar na samplaí thíos den séimhiú ar an aidiacht. Bí ag obair leis an duine in aice leat agus déanaigí iarracht cúis an tséimhithe a mhíni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ight Arrow 4"/>
          <p:cNvSpPr/>
          <p:nvPr/>
        </p:nvSpPr>
        <p:spPr>
          <a:xfrm flipV="1">
            <a:off x="609480" y="914040"/>
            <a:ext cx="4572000" cy="46080"/>
          </a:xfrm>
          <a:prstGeom prst="rightArrow">
            <a:avLst>
              <a:gd name="adj1" fmla="val 50000"/>
              <a:gd name="adj2" fmla="val 49609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alibri"/>
              </a:rPr>
              <a:t>An Aidiacht </a:t>
            </a:r>
            <a:r>
              <a:rPr b="1" lang="en-IE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29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IE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29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E" sz="1600" spc="-1" strike="noStrike">
                <a:solidFill>
                  <a:srgbClr val="000000"/>
                </a:solidFill>
                <a:latin typeface="Calibri"/>
              </a:rPr>
              <a:t>séimhiú</a:t>
            </a:r>
            <a:r>
              <a:rPr b="1" lang="en-IE" sz="2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609480" y="1676520"/>
          <a:ext cx="5639040" cy="669132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</a:tblGrid>
              <a:tr h="244440"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idiacht (+ séimhiú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én fáth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uiscint mha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uirtear séimhiú ar an aidiacht tar éis ainmfhocail bhaininscnigh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2560"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r bhea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uirtear séimhiú ar an aidiacht nuair a chríochnaíonn an t-ainmfhocal roimhe le consan caol. Bíonn an aidiacht féin i bhfoirm an iolra chomh maith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6640"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ean dhe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uirtear séimhiú ar an </a:t>
                      </a:r>
                      <a:r>
                        <a:rPr b="1" lang="en-GB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Times New Roman"/>
                        </a:rPr>
                        <a:t>aidiacht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tar éis ainmfhocal bhaininscnigh. Ní bhíonn séimhiú ann má thagann dhá ainmfhocal le chéile, m.sh. Cúirt dúich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7000"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eaghlaigh mhó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E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uirtear séimhiú ar an aidiacht nuair a chríochnaíonn an t-ainmfhocal roimhe le consan caol. Bíonn an aidiacht féin i bhfoirm an iolra chomh maith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7000"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ist dheaca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800" rIns="558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uirtear séimhiú ar an aidiacht tar éis ainmfhocail bhaininscnigh, agus ní bhaineann riail na dentals leis an scéal sa chás se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5800" marR="55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TextBox 9"/>
          <p:cNvSpPr/>
          <p:nvPr/>
        </p:nvSpPr>
        <p:spPr>
          <a:xfrm>
            <a:off x="533520" y="106668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An raibh an míniú ceart agaibh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ight Arrow 4"/>
          <p:cNvSpPr/>
          <p:nvPr/>
        </p:nvSpPr>
        <p:spPr>
          <a:xfrm flipV="1">
            <a:off x="609480" y="914040"/>
            <a:ext cx="4572000" cy="46080"/>
          </a:xfrm>
          <a:prstGeom prst="rightArrow">
            <a:avLst>
              <a:gd name="adj1" fmla="val 50000"/>
              <a:gd name="adj2" fmla="val 49609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Calibri"/>
              </a:rPr>
              <a:t>An Aidiacht </a:t>
            </a:r>
            <a:r>
              <a:rPr b="1" lang="en-IE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29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IE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2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IE" sz="29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E" sz="1600" spc="-1" strike="noStrike">
                <a:solidFill>
                  <a:srgbClr val="000000"/>
                </a:solidFill>
                <a:latin typeface="Calibri"/>
              </a:rPr>
              <a:t>séimhiú</a:t>
            </a:r>
            <a:r>
              <a:rPr b="1" lang="en-IE" sz="2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9"/>
          <p:cNvSpPr/>
          <p:nvPr/>
        </p:nvSpPr>
        <p:spPr>
          <a:xfrm>
            <a:off x="533520" y="1066680"/>
            <a:ext cx="5638680" cy="73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Roghnaigh an fhoirm cheart den aidiacht le cur sna bearnaí sna habairtí thíos. Nuair atá tú críochnaithe féach cad a bhí ag an duine in aice lea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Is breá liom Snow Patrol, sílim go bhfuil amhráin (deas) __________ acu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Tá gruaig (fada / donn) __________ ar Mhái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Is fear (maith) é Séamus agus bíonn sé ag obair go crua i gcónaí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Is breá liom na tithe (dearg) __________ ar fad a fheiceann tú i Londain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An bhfaca tú an chasóg (glas) __________ atá ag Séan? Tá sé uafásach, nach bhfuil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Tá bialanna (Francach) __________ nua sa bhaile mór, tá a lán bialanna (difriúil) __________ anois an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An scrúdú (fada) __________ é, an bhfuil a fhios aga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Tá crainn (ard) __________ taobh amuigh dá theach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Is scríbhneoir (cáiliúil) __________ é Oscar Wild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Féach ar na báid (bán) __________ ar fad atá sa chuan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ight Arrow 4"/>
          <p:cNvSpPr/>
          <p:nvPr/>
        </p:nvSpPr>
        <p:spPr>
          <a:xfrm flipV="1">
            <a:off x="609480" y="914040"/>
            <a:ext cx="4572000" cy="46080"/>
          </a:xfrm>
          <a:prstGeom prst="rightArrow">
            <a:avLst>
              <a:gd name="adj1" fmla="val 50000"/>
              <a:gd name="adj2" fmla="val 49609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user</dc:creator>
  <dc:description/>
  <dc:language>en-US</dc:language>
  <cp:lastModifiedBy>Deirdre Ni Chaomhanaigh</cp:lastModifiedBy>
  <dcterms:modified xsi:type="dcterms:W3CDTF">2012-07-26T13:04:20Z</dcterms:modified>
  <cp:revision>42</cp:revision>
  <dc:subject/>
  <dc:title>An Aimsir Láithreach</dc:title>
</cp:coreProperties>
</file>