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D31-D68C-42AC-898D-F10035EE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161-F68F-4B72-B02B-2B4B7C28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333-9A89-402D-97D3-F289307A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800-47FE-4A73-A426-B02746CB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F0B-15A5-4DFA-A9AF-9C6C0562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407-37F1-48B0-9AEC-68CCEE93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CA3-6240-40B5-823E-3A4482F2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4C4-629E-4275-91DA-8B2D5A5F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7E1-221F-4F6E-8EBE-6AC860C3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EAE-F311-49A3-BB55-13157BAF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0CE-49FC-4315-8386-F658BCA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DD7-C1A3-48CB-9714-250EE662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B561-3B33-4498-8D52-DB6E61E97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An Aidiacht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éimhiú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2286000"/>
          <a:ext cx="5639040" cy="435924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244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idiacht (+ séimhi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én fáth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iscint mha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 bhe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an dh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ghlaigh mhó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ist dheac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Box 9"/>
          <p:cNvSpPr/>
          <p:nvPr/>
        </p:nvSpPr>
        <p:spPr>
          <a:xfrm>
            <a:off x="533520" y="10666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Féach ar na samplaí thíos den séimhiú ar an aidiacht. Bí ag obair leis an duine in aice leat agus déanaigí iarracht cúis an tséimhithe a mhíni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ight Arrow 4"/>
          <p:cNvSpPr/>
          <p:nvPr/>
        </p:nvSpPr>
        <p:spPr>
          <a:xfrm flipV="1">
            <a:off x="609480" y="914040"/>
            <a:ext cx="4572000" cy="46080"/>
          </a:xfrm>
          <a:prstGeom prst="rightArrow">
            <a:avLst>
              <a:gd name="adj1" fmla="val 50000"/>
              <a:gd name="adj2" fmla="val 4960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An Aidiacht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éimhiú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1676520"/>
          <a:ext cx="5639040" cy="66913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244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idiacht (+ séimhi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én fáth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iscint mha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irtear séimhiú ar an aidiacht tar éis ainmfhocail bhaininscnig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 bhe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irtear séimhiú ar an aidiacht nuair a chríochnaíonn an t-ainmfhocal roimhe le consan caol. Bíonn an aidiacht féin i bhfoirm an iolra chomh maith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66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an dh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irtear séimhiú ar an </a:t>
                      </a:r>
                      <a:r>
                        <a:rPr b="1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aidiacht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tar éis ainmfhocal bhaininscnigh. Ní bhíonn séimhiú ann má thagann dhá ainmfhocal le chéile, m.sh. Cúirt dúich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0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ghlaigh mhó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irtear séimhiú ar an aidiacht nuair a chríochnaíonn an t-ainmfhocal roimhe le consan caol. Bíonn an aidiacht féin i bhfoirm an iolra chomh maith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0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ist dheac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irtear séimhiú ar an aidiacht tar éis ainmfhocail bhaininscnigh, agus ní bhaineann riail na dentals leis an scéal sa chás se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Box 9"/>
          <p:cNvSpPr/>
          <p:nvPr/>
        </p:nvSpPr>
        <p:spPr>
          <a:xfrm>
            <a:off x="533520" y="1066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n raibh an míniú ceart agaib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ight Arrow 4"/>
          <p:cNvSpPr/>
          <p:nvPr/>
        </p:nvSpPr>
        <p:spPr>
          <a:xfrm flipV="1">
            <a:off x="609480" y="914040"/>
            <a:ext cx="4572000" cy="46080"/>
          </a:xfrm>
          <a:prstGeom prst="rightArrow">
            <a:avLst>
              <a:gd name="adj1" fmla="val 50000"/>
              <a:gd name="adj2" fmla="val 4960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An Aidiacht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éimhiú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533520" y="1066680"/>
            <a:ext cx="5638680" cy="73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oghnaigh an fhoirm cheart den aidiacht le cur sna bearnaí sna habairtí thíos. Nuair atá tú críochnaithe féach cad a bhí ag an duine in aice le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s breá liom Snow Patrol, sílim go bhfuil amhráin (deas) __________ ac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á gruaig (fada / donn) __________ ar Mhái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s fear (maith) é Séamus agus bíonn sé ag obair go crua i gcóna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s breá liom na tithe (dearg) __________ ar fad a fheiceann tú i Londai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n bhfaca tú an chasóg (glas) __________ atá ag Séan? Tá sé uafásach, nach bhfui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á bialanna (Francach) __________ nua sa bhaile mór, tá a lán bialanna (difriúil) __________ anois 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n scrúdú (fada) __________ é, an bhfuil a fhios aga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á crainn (ard) __________ taobh amuigh dá thea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s scríbhneoir (cáiliúil) __________ é Oscar Wil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Féach ar na báid (bán) __________ ar fad atá sa chua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ight Arrow 4"/>
          <p:cNvSpPr/>
          <p:nvPr/>
        </p:nvSpPr>
        <p:spPr>
          <a:xfrm flipV="1">
            <a:off x="609480" y="914040"/>
            <a:ext cx="4572000" cy="46080"/>
          </a:xfrm>
          <a:prstGeom prst="rightArrow">
            <a:avLst>
              <a:gd name="adj1" fmla="val 50000"/>
              <a:gd name="adj2" fmla="val 4960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Deirdre Ni Chaomhanaigh</cp:lastModifiedBy>
  <dcterms:modified xsi:type="dcterms:W3CDTF">2012-07-26T13:04:20Z</dcterms:modified>
  <cp:revision>42</cp:revision>
  <dc:subject/>
  <dc:title>An Aimsir Láithreach</dc:title>
</cp:coreProperties>
</file>